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embeddings/oleObject3.xlsx" ContentType="application/vnd.openxmlformats-officedocument.spreadsheetml.sheet"/>
  <Override PartName="/ppt/embeddings/oleObject1.docx" ContentType="application/vnd.openxmlformats-officedocument.wordprocessingml.document"/>
  <Override PartName="/ppt/media/image10.wmf" ContentType="image/x-wmf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5.png" ContentType="image/png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png" ContentType="image/png"/>
  <Override PartName="/ppt/media/image2.wmf" ContentType="image/x-wmf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5.xml.rels" ContentType="application/vnd.openxmlformats-package.relationships+xml"/>
  <Override PartName="/ppt/slides/_rels/slide95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125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24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8.xml" ContentType="application/vnd.openxmlformats-officedocument.presentationml.slide+xml"/>
  <Override PartName="/ppt/slides/slide7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" y="12600"/>
            <a:ext cx="684360" cy="6845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442880"/>
            <a:ext cx="4724280" cy="152640"/>
          </a:xfrm>
          <a:prstGeom prst="rect">
            <a:avLst/>
          </a:prstGeom>
          <a:gradFill rotWithShape="0">
            <a:gsLst>
              <a:gs pos="0">
                <a:srgbClr val="264dc1"/>
              </a:gs>
              <a:gs pos="50000">
                <a:srgbClr val="3366ff">
                  <a:alpha val="78039"/>
                </a:srgbClr>
              </a:gs>
              <a:gs pos="100000">
                <a:srgbClr val="264d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4191120" cy="241200"/>
          </a:xfrm>
          <a:prstGeom prst="rect">
            <a:avLst/>
          </a:prstGeom>
          <a:gradFill rotWithShape="0">
            <a:gsLst>
              <a:gs pos="0">
                <a:srgbClr val="750017"/>
              </a:gs>
              <a:gs pos="50000">
                <a:srgbClr val="ff0033"/>
              </a:gs>
              <a:gs pos="100000">
                <a:srgbClr val="75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58920" y="452520"/>
            <a:ext cx="8785080" cy="7617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12600"/>
            <a:ext cx="1447920" cy="68565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efefe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8920" y="1447920"/>
            <a:ext cx="8785080" cy="175248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0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8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676520"/>
            <a:ext cx="82422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arch Engines &amp; Question Answer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dex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useppe Attar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versità di P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ome slides borrowed from C. Manning, H. Schütz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55280" y="1698480"/>
            <a:ext cx="6232680" cy="156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cuments are parsed to extract words and these are saved with the Document I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4038480"/>
            <a:ext cx="2743200" cy="2133720"/>
          </a:xfrm>
          <a:prstGeom prst="rect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did enact Jul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esar I was ki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' the Capito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tus killed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67560" y="35812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4038480"/>
            <a:ext cx="3124080" cy="2286000"/>
          </a:xfrm>
          <a:prstGeom prst="rect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let it be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esar. The no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tus hath told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esar was ambit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58480" y="35812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391520" y="1724040"/>
          <a:ext cx="1224000" cy="521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1724040"/>
                    <a:ext cx="12240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5867280" y="388620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rted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s of thu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al index size factor of 2-4 over non-positional ind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al index size 35-50% of volume of original tex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veat: all of this holds for “English-like”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co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us far, considered index sp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index construction tim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strategies can we use with limited main memor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what bigger corp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mber of docs = n = 40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mber of terms = m = 1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Zipf to estimate number of postings entri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 + n/2 + n/3 + …. + n/m ~ 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60M ent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positional info y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979960" y="4651200"/>
            <a:ext cx="1371600" cy="1143000"/>
          </a:xfrm>
          <a:prstGeom prst="upArrowCallout">
            <a:avLst>
              <a:gd name="adj1" fmla="val 30003"/>
              <a:gd name="adj2" fmla="val 30000"/>
              <a:gd name="adj3" fmla="val 16667"/>
              <a:gd name="adj4" fmla="val 66660"/>
            </a:avLst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eck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/>
          </p:nvPr>
        </p:nvSpPr>
        <p:spPr>
          <a:xfrm>
            <a:off x="755280" y="1698480"/>
            <a:ext cx="6232680" cy="156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cuments are parsed to extract words and these are saved with the Document I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52280" y="4038480"/>
            <a:ext cx="2743200" cy="2133720"/>
          </a:xfrm>
          <a:prstGeom prst="rect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did enact Jul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esar I was ki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' the Capito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tus killed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267560" y="35812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200400" y="4038480"/>
            <a:ext cx="3124080" cy="2286000"/>
          </a:xfrm>
          <a:prstGeom prst="rect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let it be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esar. The no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tus hath told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esar was ambit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858480" y="35812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867280" y="388620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all index co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7391520" y="762120"/>
          <a:ext cx="1623960" cy="601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762120"/>
                    <a:ext cx="162396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7010280" y="3886200"/>
            <a:ext cx="3812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5410080" y="915840"/>
          <a:ext cx="1535400" cy="548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915840"/>
                    <a:ext cx="1535400" cy="548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7467480" y="914400"/>
          <a:ext cx="1352520" cy="5478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914400"/>
                    <a:ext cx="1352520" cy="54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419112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all documents have been parsed the inverted file is sorted by term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co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 we build up the index, cannot exploit compression tri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se docs one at a time, final postings entry for any term incomplete until the e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ctually you can exploit compression, but this becomes a lot more complex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10-12 bytes per postings entry, demands several temporary gigaby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parameters for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k seek ~ 1 milliseco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ck transfer from disk ~ 1 microsecond per byte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llowing a see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other ops ~ 10 microsecon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lene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357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se and build postings entries one doc at a ti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now turn this into a term-wise view, must sort postings entries by term (then by doc within each term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ing this with random disk seeks would be too slo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85800" y="5029200"/>
            <a:ext cx="8226360" cy="1371600"/>
          </a:xfrm>
          <a:prstGeom prst="upArrowCallout">
            <a:avLst>
              <a:gd name="adj1" fmla="val -131893"/>
              <a:gd name="adj2" fmla="val 149941"/>
              <a:gd name="adj3" fmla="val 16667"/>
              <a:gd name="adj4" fmla="val 66660"/>
            </a:avLst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every comparison took 1 disk seek, an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s could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ed wit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s, how long would this ta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 with fewer disk see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-byte (4+4+4) record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term, doc, freq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are generated as we parse do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t now sort 560M such 12-byte records b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loc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10M such reco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“easily” fit a couple into mem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l sort within blocks first, then merge the blocks into one long sorted or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 56 blocks of 10M rec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st, read each block and sort within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cksort takes about 2 x (10M ln 10M)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ercise: estimate total time to read each block from disk and and quicksort 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6 times this estimate - gives us 56 sort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u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10M records ea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 2 copies of data on disk, througho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698480"/>
            <a:ext cx="449568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ter all documents have been parsed the inverted file is sorted by term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620120" y="1577880"/>
          <a:ext cx="1224000" cy="528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1577880"/>
                    <a:ext cx="1224000" cy="52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162920" y="38862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943600" y="1577880"/>
          <a:ext cx="1224000" cy="5356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1577880"/>
                    <a:ext cx="1224000" cy="535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56 sorted r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17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rge tree of lo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6 ~ 6 lay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ring each layer, read into memory runs in blocks of 10M, merge, write ba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438280" y="3429000"/>
            <a:ext cx="6098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438280" y="4038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276720" y="3429000"/>
            <a:ext cx="6094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276720" y="4038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029200" y="3429000"/>
            <a:ext cx="6094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029200" y="4038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867280" y="3429000"/>
            <a:ext cx="6098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4038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276720" y="5715000"/>
            <a:ext cx="2514600" cy="9144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276720" y="5562720"/>
            <a:ext cx="2514600" cy="304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H="1" flipV="1">
            <a:off x="3200400" y="4876560"/>
            <a:ext cx="5335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114800" y="40384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5257800" y="4876920"/>
            <a:ext cx="4572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604960" y="3542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590560" y="411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428640" y="411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428640" y="3504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970240" y="411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181480" y="411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208480" y="3504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970240" y="3504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56 r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 estimate for disk transfer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x 56 x (120M x 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x 2 ~ 22 hou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808360" y="3716280"/>
            <a:ext cx="1368360" cy="828720"/>
          </a:xfrm>
          <a:prstGeom prst="upArrowCallout">
            <a:avLst>
              <a:gd name="adj1" fmla="val 35626"/>
              <a:gd name="adj2" fmla="val 33826"/>
              <a:gd name="adj3" fmla="val 16667"/>
              <a:gd name="adj4" fmla="val 66660"/>
            </a:avLst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lock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62120" y="4898880"/>
            <a:ext cx="3504960" cy="1191240"/>
          </a:xfrm>
          <a:prstGeom prst="rect">
            <a:avLst/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each stage the run size doubles but the runs divide by ha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 flipV="1">
            <a:off x="1584360" y="3681360"/>
            <a:ext cx="6480" cy="1208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967280" y="3716280"/>
            <a:ext cx="1368360" cy="828720"/>
          </a:xfrm>
          <a:prstGeom prst="upArrowCallout">
            <a:avLst>
              <a:gd name="adj1" fmla="val 41283"/>
              <a:gd name="adj2" fmla="val 32947"/>
              <a:gd name="adj3" fmla="val 16667"/>
              <a:gd name="adj4" fmla="val 66660"/>
            </a:avLst>
          </a:prstGeom>
          <a:solidFill>
            <a:srgbClr val="3366ff">
              <a:alpha val="51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ad+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708360" y="2313000"/>
            <a:ext cx="1655640" cy="863640"/>
          </a:xfrm>
          <a:prstGeom prst="downArrowCallout">
            <a:avLst>
              <a:gd name="adj1" fmla="val 38788"/>
              <a:gd name="adj2" fmla="val 35013"/>
              <a:gd name="adj3" fmla="val 16727"/>
              <a:gd name="adj4" fmla="val 66667"/>
            </a:avLst>
          </a:prstGeom>
          <a:solidFill>
            <a:srgbClr val="3366ff">
              <a:alpha val="49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ansf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 - fill in this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685800" y="1698480"/>
          <a:ext cx="7772400" cy="4665960"/>
        </p:xfrm>
        <a:graphic>
          <a:graphicData uri="http://schemas.openxmlformats.org/drawingml/2006/table">
            <a:tbl>
              <a:tblPr/>
              <a:tblGrid>
                <a:gridCol w="477720"/>
                <a:gridCol w="5589720"/>
                <a:gridCol w="1704960"/>
              </a:tblGrid>
              <a:tr h="73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 initial quicksorts of 10M records ea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2 sorted blocks for merging, write ba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ge 2 sorted bloc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(2) + (3) = time to read/merge/wri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 times (4) = total merge 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95" name=""/>
          <p:cNvSpPr/>
          <p:nvPr/>
        </p:nvSpPr>
        <p:spPr>
          <a:xfrm>
            <a:off x="76320" y="5027760"/>
            <a:ext cx="684000" cy="460080"/>
          </a:xfrm>
          <a:prstGeom prst="rightArrowCallout">
            <a:avLst>
              <a:gd name="adj1" fmla="val 25002"/>
              <a:gd name="adj2" fmla="val 25000"/>
              <a:gd name="adj3" fmla="val 24778"/>
              <a:gd name="adj4" fmla="val 66667"/>
            </a:avLst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rge memory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se instead that we had 16GB of memory for the above indexing task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ercise: how much time to index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peat with a couple of values of n, m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practice, spidering interlaced with indexing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dering bottlenecked by WAN speed and many other factors - more on this la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roving on merge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6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ressed temporary fi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ress terms in temporary dictionary ru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rge more than 2 runs at a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tain heap of candidates from each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438280" y="4800600"/>
            <a:ext cx="38124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048120" y="4800600"/>
            <a:ext cx="3808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343400" y="4800600"/>
            <a:ext cx="3808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029200" y="4800600"/>
            <a:ext cx="3808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715000" y="4800600"/>
            <a:ext cx="3808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400800" y="4800600"/>
            <a:ext cx="3808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599280" y="55317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438280" y="5105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048120" y="5105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343400" y="5105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029200" y="5105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715000" y="5105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400800" y="5105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3434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4495680" y="43434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5943600" y="43434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971800" y="43434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876920" y="43434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324480" y="43434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4876920" y="38098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H="1" flipV="1">
            <a:off x="5562720" y="3809880"/>
            <a:ext cx="7617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2971800" y="37335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016520" y="37029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452320" y="4761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074760" y="4723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370040" y="4723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055840" y="4723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741640" y="4723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427440" y="4723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ing speed in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TREC TeraByte 2004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4-38 GB/hour on a 1GHz Pentium PC (depending on HTML parse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cs come in over ti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ings updates for terms already in diction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terms added to diction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cs get dele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st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tain “big” main inde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docs go into “small” auxiliary inde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rch across both, merge 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e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alidation bit-vector for deleted do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ter docs output on a search result by this invalidation bit-ve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iodically, re-index into one main inde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complex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lly dynamic upda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ly one index at all tim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big and small ind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e management of a pool of sp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lly dynamic up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erting a (variable-length) reco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, a typical postings ent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intain a pool of (say) 64KB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unk header maintains metadata on records in chunk, and its free sp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rot="5400000">
            <a:off x="3200400" y="5029200"/>
            <a:ext cx="1828800" cy="1371600"/>
          </a:xfrm>
          <a:prstGeom prst="flowChartPredefinedProcess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429000" y="6172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5943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429000" y="5715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686760" y="636912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702600" y="609588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702600" y="586728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692880" y="563868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697200" y="472428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525840" y="51498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 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698480"/>
            <a:ext cx="380988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e term entries in a single document are merged and frequency information add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912000" y="1698480"/>
          <a:ext cx="1763640" cy="4672080"/>
        </p:xfrm>
        <a:graphic>
          <a:graphicData uri="http://schemas.openxmlformats.org/drawingml/2006/table">
            <a:tbl>
              <a:tblPr/>
              <a:tblGrid>
                <a:gridCol w="792000"/>
                <a:gridCol w="503280"/>
                <a:gridCol w="468360"/>
              </a:tblGrid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c #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bitio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utu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utu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it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es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es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a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'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i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ll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l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6172200" y="365760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643280" y="1736640"/>
          <a:ext cx="1441440" cy="4671720"/>
        </p:xfrm>
        <a:graphic>
          <a:graphicData uri="http://schemas.openxmlformats.org/drawingml/2006/table">
            <a:tbl>
              <a:tblPr/>
              <a:tblGrid>
                <a:gridCol w="801360"/>
                <a:gridCol w="640080"/>
              </a:tblGrid>
              <a:tr h="17280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c #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bitio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utu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utu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it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es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es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a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'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i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ll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l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memory, maintain a global record address table that says, for each record, the chunk it’s i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e one chunk to be curr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er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current chunk has enough free sp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nd record and update metad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se look in other chunks for enough sp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se open new chun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ges to dictio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terms appear over ti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not use a static perfect hash for diction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K to use term character string w/pointers from postings as in lecture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on disk vs. mem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retrieval systems keep the dictionary in memory and the postings on dis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b search engines frequently keep both in mem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sive memory requir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sible for large web service installations, less so for standard usage w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ry loads are ligh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s willing to wait 2 seconds for a respon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e on this when discussing deployment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ose we had several machines available to do the index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 we exploit the parallel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basic approach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ipe by dictionary as index is built 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ipe by docu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ing in the real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ically, don’t have all documents sitting on a local file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uments need to b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ide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ld be dispersed over a WAN with varying connectiv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schedule distributed spiders/indexe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ld be (secure content) i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nt management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ail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 often not the most efficient way of fetching these documents - native API fetch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ing in the real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cuments in a variety of forma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d processing formats (e.g., MS Wor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readshe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shing formats (e.g., pdf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ly handled using format-specific “filters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rt format into text + meta-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cuments in a variety of langu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ically detect language(s) in a docu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kenization, stemming, are language-depend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47640" y="512640"/>
            <a:ext cx="791856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ile is commonly split into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ction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sting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00000" y="1708200"/>
          <a:ext cx="1800360" cy="4680000"/>
        </p:xfrm>
        <a:graphic>
          <a:graphicData uri="http://schemas.openxmlformats.org/drawingml/2006/table">
            <a:tbl>
              <a:tblPr/>
              <a:tblGrid>
                <a:gridCol w="735120"/>
                <a:gridCol w="587520"/>
                <a:gridCol w="477720"/>
              </a:tblGrid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c #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7280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bitio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utu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utu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it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es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es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a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'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i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ll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l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662280" y="1981080"/>
          <a:ext cx="19861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2280" y="1981080"/>
                    <a:ext cx="1986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5638680" y="3962520"/>
            <a:ext cx="17528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638680" y="2057040"/>
            <a:ext cx="17528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638680" y="2209680"/>
            <a:ext cx="1752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638680" y="2361960"/>
            <a:ext cx="17528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5146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38680" y="26668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38680" y="28195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38680" y="2819520"/>
            <a:ext cx="17528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3048120"/>
            <a:ext cx="17528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200400"/>
            <a:ext cx="17528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638680" y="3352680"/>
            <a:ext cx="1752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3505320"/>
            <a:ext cx="17528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38680" y="3657600"/>
            <a:ext cx="17528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809880"/>
            <a:ext cx="1752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38680" y="4114800"/>
            <a:ext cx="17528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4267080"/>
            <a:ext cx="17528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4419720"/>
            <a:ext cx="17528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38680" y="4572000"/>
            <a:ext cx="17528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4724280"/>
            <a:ext cx="17528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4876920"/>
            <a:ext cx="17528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4876920"/>
            <a:ext cx="17528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5029200"/>
            <a:ext cx="1752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38680" y="5257800"/>
            <a:ext cx="17528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38680" y="5410080"/>
            <a:ext cx="17528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38680" y="5562720"/>
            <a:ext cx="17528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373392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5410080"/>
            <a:ext cx="17528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7380360" y="1808280"/>
          <a:ext cx="1106280" cy="4671720"/>
        </p:xfrm>
        <a:graphic>
          <a:graphicData uri="http://schemas.openxmlformats.org/drawingml/2006/table">
            <a:tbl>
              <a:tblPr/>
              <a:tblGrid>
                <a:gridCol w="609840"/>
                <a:gridCol w="496440"/>
              </a:tblGrid>
              <a:tr h="17280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c #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0920" y="618840"/>
            <a:ext cx="80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 do we pay in storag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133720" y="1798560"/>
          <a:ext cx="198576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798560"/>
                    <a:ext cx="1985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4110120" y="378000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110120" y="1874520"/>
            <a:ext cx="1752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110120" y="2027160"/>
            <a:ext cx="17524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110120" y="2179440"/>
            <a:ext cx="1752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10120" y="23320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10120" y="248436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10120" y="2637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10120" y="263700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10120" y="2865600"/>
            <a:ext cx="1752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0120" y="3017880"/>
            <a:ext cx="1752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10120" y="3170160"/>
            <a:ext cx="17524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0120" y="3322800"/>
            <a:ext cx="1752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10120" y="3475080"/>
            <a:ext cx="1752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10120" y="3627360"/>
            <a:ext cx="17524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10120" y="393228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10120" y="408456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10120" y="423720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10120" y="438948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10120" y="454176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10120" y="469440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0120" y="4694400"/>
            <a:ext cx="1752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10120" y="484668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110120" y="5075280"/>
            <a:ext cx="1752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10120" y="5227560"/>
            <a:ext cx="1752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10120" y="5380200"/>
            <a:ext cx="1752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10120" y="5227560"/>
            <a:ext cx="1752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343400" y="5867280"/>
            <a:ext cx="1189080" cy="914400"/>
          </a:xfrm>
          <a:prstGeom prst="upArrowCallout">
            <a:avLst>
              <a:gd name="adj1" fmla="val 32513"/>
              <a:gd name="adj2" fmla="val 32510"/>
              <a:gd name="adj3" fmla="val 16667"/>
              <a:gd name="adj4" fmla="val 66660"/>
            </a:avLst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3733920"/>
            <a:ext cx="1371600" cy="609480"/>
          </a:xfrm>
          <a:prstGeom prst="rightArrowCallout">
            <a:avLst>
              <a:gd name="adj1" fmla="val 25002"/>
              <a:gd name="adj2" fmla="val 25000"/>
              <a:gd name="adj3" fmla="val 37507"/>
              <a:gd name="adj4" fmla="val 66667"/>
            </a:avLst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04000" y="1592280"/>
          <a:ext cx="1438200" cy="4835160"/>
        </p:xfrm>
        <a:graphic>
          <a:graphicData uri="http://schemas.openxmlformats.org/drawingml/2006/table">
            <a:tbl>
              <a:tblPr/>
              <a:tblGrid>
                <a:gridCol w="792720"/>
                <a:gridCol w="645480"/>
              </a:tblGrid>
              <a:tr h="17892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c #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7928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92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28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28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56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28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28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92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28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92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92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28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28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92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28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92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92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28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28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92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92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28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92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28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28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56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conflicting fo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term like 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Calpurni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ccurs in maybe one doc out of a million - would like to store this pointer using lo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1M ~ 20 bi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term like 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th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ccurs in virtually every doc, so 20 bits/pointer is too expens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fer 0/1 vector in this c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ings file en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re list of docs containing a term in increasing order of doc 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Brutu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33,47,154,159,202 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equen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suffices to store ga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3,14,107,5,43 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p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most gaps encoded with far fewer than 20 bi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ble enc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Calpurni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use ~20 bits/gap en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th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use ~1 bit/gap en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he average gap for a term i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want to use ~lo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its/gap en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s for gap enc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74464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 a gap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s the pai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&lt;length,offset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in unary and use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1 bits to specify the length of the binary encoding o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ffse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log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, 9 represented as 111000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oding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akes 2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1 bi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35280" y="1989000"/>
            <a:ext cx="1260360" cy="459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95640" y="1989000"/>
            <a:ext cx="1260720" cy="459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e’ve just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coded each gap as tightly as possible, to within a factor of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better tuning (and a simple analysis) - need some handle on the distribution of gap val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xing and Sear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xing and inverted fi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ings Li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ry proces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ipf’s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 most frequent term has frequency proportional to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/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this for a crude analysis of the space used by our postings file point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ipf’s law log-log pl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399360" cy="47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gh analysis based on Zip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 frequent term occurs i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o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gaps of 1 ea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most frequent term i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/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o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/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gaps of 2 each 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 most frequent term i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/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o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/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gaps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ach - 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 +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its for each g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t of ~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2n/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lo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its f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most frequent te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 ove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from 1 to 500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this by breaking values of k into group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p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nsists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i-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k &lt; 2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oup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Arial"/>
              </a:rPr>
              <a:t>i-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mponents in the sum, each contributing at most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n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/2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Arial"/>
              </a:rPr>
              <a:t>i-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ing ove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rom 1 to 19, we get a net estimate of 340 Mbits, ~45 MB for our ind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732720" y="5950080"/>
            <a:ext cx="1871640" cy="684000"/>
          </a:xfrm>
          <a:prstGeom prst="leftArrowCallout">
            <a:avLst>
              <a:gd name="adj1" fmla="val 24826"/>
              <a:gd name="adj2" fmla="val 25000"/>
              <a:gd name="adj3" fmla="val 25767"/>
              <a:gd name="adj4" fmla="val 82026"/>
            </a:avLst>
          </a:prstGeom>
          <a:solidFill>
            <a:srgbClr val="009999">
              <a:alpha val="39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ve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not the entire space for our index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s not account for dictionary stor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we get further, we’ll store even more stuff in the inde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umes Zipf’s law applies to occurrence of terms in do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gaps for a term taken to be the sa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es not talk about query proces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 with index we just bui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399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we process a quer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terms in a doc do we index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words or only “important” one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opwor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ist: terms that are so common that they’re ignored for index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a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of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nguage-specif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5769000"/>
            <a:ext cx="7543800" cy="762120"/>
          </a:xfrm>
          <a:prstGeom prst="flowChartProcess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erci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epeat postings size calculation if 100 m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t terms are not index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 in what to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4206960"/>
            <a:ext cx="7772400" cy="232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Cooper’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Coop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Coop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Full-tex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full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tex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vs. {</a:t>
            </a: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full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tex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 vs. </a:t>
            </a: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fulltex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nts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résum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resu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086280" y="1698480"/>
          <a:ext cx="2971800" cy="23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86280" y="1698480"/>
                    <a:ext cx="297180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762120" y="2098800"/>
            <a:ext cx="7848360" cy="1557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per’s concordance of Wordsworth was published in 1911.   The applications of full-text retrieval are legion: they include résumé scanning, litigation support and searching published journals on-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nct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Ne’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use language-specific, handcrafted “locale” to normal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State-of-the-ar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break up hyphenated seque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U.S.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US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use loca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a.ou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3/12/9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Mar. 12, 199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55 B.C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B-5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100.2.86.14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ly, don’t index as tex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on dates for do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fol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uce all letters to lower c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ption: upper case in mid-sent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.g.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General Mo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F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f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SAI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s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rted index stor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ressing dictionaries in mem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ssing Boolean que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mizing term proces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ip list enco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d-card que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al/phrase/proximity que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sauri and sou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ndle synonyms and homony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nd-constructed equivalence cla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c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automob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you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you’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x such equivalences, or expand quer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e later 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ll corr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k for all words within (say) edit distance 3 (Insert/Delete/Replace) at query ti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Alanis Moriset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ll correction is expensive and slows the query (upto a factor of 10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oke only when index returns zero match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f docs contain mis-spelling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mmat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uce inflectional/variant forms to base for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.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33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am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are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i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33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car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car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car'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cars'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c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the boy's cars are different color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the boy car be different col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uce terms to their “roots” before index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nguage depend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automate(s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automatic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autom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ll reduced to </a:t>
            </a: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auto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960" y="167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15840" y="4572000"/>
            <a:ext cx="3656160" cy="1644480"/>
          </a:xfrm>
          <a:prstGeom prst="rect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 compres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ompression are bo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ed as equivalent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00760" y="4572000"/>
            <a:ext cx="3427200" cy="1644480"/>
          </a:xfrm>
          <a:prstGeom prst="rect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 compre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s are both ac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equival to comp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27440" y="5181480"/>
            <a:ext cx="30492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er’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onest algorithm for stemming Englis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ntions + 5 phases of redu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s applied sequential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 phase consists of a set of comman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convention: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f the rules in a compound command, select the one that applies to the longest suffi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rules in Por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ss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ies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ational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tional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stem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stemmers exist, e.g., Lovins stemm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comp.lancs.ac.uk/computing/research/stemming/general/lovins.ht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le-pass, longest suffix removal (about 250 rule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ed by Linguistics as well as I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ll morphological analysis - modest benefits for retriev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yond term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phras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ximity: Find </a:t>
            </a: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Gat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EAR </a:t>
            </a: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Microsof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 index to capture position information in do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ones in documents: Find documents with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uthor = </a:t>
            </a: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Ullma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text contains </a:t>
            </a: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automat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590920" y="373392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ctionary and postings file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fast, compact inverted ind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33520" y="1676520"/>
          <a:ext cx="188748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18874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7596360" y="1523880"/>
          <a:ext cx="1163520" cy="4419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523880"/>
                    <a:ext cx="11635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5346720" y="39625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346720" y="1752120"/>
            <a:ext cx="2197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346720" y="1904760"/>
            <a:ext cx="2197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346720" y="2057040"/>
            <a:ext cx="2197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346720" y="2209680"/>
            <a:ext cx="22096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346720" y="2361960"/>
            <a:ext cx="2209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5346720" y="2514240"/>
            <a:ext cx="2197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46720" y="2666880"/>
            <a:ext cx="21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46720" y="28954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46720" y="32767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46720" y="34290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46720" y="36576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46720" y="38098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46720" y="41911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46720" y="43434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46720" y="45720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46720" y="5486400"/>
            <a:ext cx="21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46720" y="5638680"/>
            <a:ext cx="21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46720" y="47242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346720" y="4876560"/>
            <a:ext cx="22096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46720" y="5638680"/>
            <a:ext cx="2197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46720" y="5257800"/>
            <a:ext cx="2197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46720" y="5029200"/>
            <a:ext cx="2197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46720" y="5867280"/>
            <a:ext cx="2197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46720" y="5105520"/>
            <a:ext cx="21970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46720" y="30481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581280" y="1676520"/>
          <a:ext cx="1795680" cy="42670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1676520"/>
                    <a:ext cx="17956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2666880" y="5943600"/>
            <a:ext cx="2438640" cy="685800"/>
          </a:xfrm>
          <a:prstGeom prst="upArrowCallout">
            <a:avLst>
              <a:gd name="adj1" fmla="val 26046"/>
              <a:gd name="adj2" fmla="val 65389"/>
              <a:gd name="adj3" fmla="val 16667"/>
              <a:gd name="adj4" fmla="val 66660"/>
            </a:avLst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Usually in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867280" y="6019920"/>
            <a:ext cx="2183040" cy="825480"/>
          </a:xfrm>
          <a:prstGeom prst="rect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Gap-encode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on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062920" y="5943600"/>
            <a:ext cx="623880" cy="733320"/>
          </a:xfrm>
          <a:custGeom>
            <a:avLst/>
            <a:gdLst>
              <a:gd name="textAreaLeft" fmla="*/ 208080 w 623880"/>
              <a:gd name="textAreaRight" fmla="*/ 534600 w 623880"/>
              <a:gd name="textAreaTop" fmla="*/ 422280 h 733320"/>
              <a:gd name="textAreaBottom" fmla="*/ 628200 h 733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rted index storag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ctionary stor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ctionary in main memory, postings on dis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common, especially for something like a search engine where high throughput is essential, but can also store most of it on disk with small, 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inde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deoffs between compression and query processing spe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scaded family of techniq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plays of Shakespeare contain the words 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Brutu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Caesa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ut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Calpurn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ld </a:t>
            </a:r>
            <a:r>
              <a:rPr b="1" lang="en-US" sz="3200" spc="-1" strike="noStrike">
                <a:solidFill>
                  <a:srgbClr val="009900"/>
                </a:solidFill>
                <a:latin typeface="Lucida Sans"/>
              </a:rPr>
              <a:t>gre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ll of Shakespeare’s plays for 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Brutu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Caesa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en strip out lines containing 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Calpurn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ow (for large corpor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non-trivi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operations (e.g., find the phrase 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Romans and countrym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not feas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the lexicon V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ws (but more slowly) with corpus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irically okay model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 =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N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0.5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30–100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# toke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instance TREC collection (2 Gb; 750,000 newswire articles)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~ 500,000 te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umber is decreased by case-folding, stem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dexing all numbers could make it extremely larg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so some SE don’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lling errors contribute a fair bit of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867280" y="2197080"/>
            <a:ext cx="2971800" cy="914400"/>
          </a:xfrm>
          <a:prstGeom prst="leftArrowCallout">
            <a:avLst>
              <a:gd name="adj1" fmla="val 24308"/>
              <a:gd name="adj2" fmla="val 28819"/>
              <a:gd name="adj3" fmla="val 25865"/>
              <a:gd name="adj4" fmla="val 84786"/>
            </a:avLst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rcise: Can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e thi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ipf’s La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ctionary storage - first c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ray of fixed-width ent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0,000 terms; 28 bytes/term = 14 M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654360" y="3068640"/>
          <a:ext cx="4118040" cy="275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4360" y="3068640"/>
                    <a:ext cx="4118040" cy="27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94" name=""/>
          <p:cNvCxnSpPr/>
          <p:nvPr/>
        </p:nvCxnSpPr>
        <p:spPr>
          <a:xfrm>
            <a:off x="6770160" y="3823920"/>
            <a:ext cx="20502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95" name=""/>
          <p:cNvCxnSpPr/>
          <p:nvPr/>
        </p:nvCxnSpPr>
        <p:spPr>
          <a:xfrm>
            <a:off x="6770160" y="4257360"/>
            <a:ext cx="20502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96" name=""/>
          <p:cNvCxnSpPr/>
          <p:nvPr/>
        </p:nvCxnSpPr>
        <p:spPr>
          <a:xfrm>
            <a:off x="6770520" y="5229000"/>
            <a:ext cx="2015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297" name=""/>
          <p:cNvSpPr/>
          <p:nvPr/>
        </p:nvSpPr>
        <p:spPr>
          <a:xfrm>
            <a:off x="826920" y="5343480"/>
            <a:ext cx="2741760" cy="1143000"/>
          </a:xfrm>
          <a:prstGeom prst="upArrowCallout">
            <a:avLst>
              <a:gd name="adj1" fmla="val 59974"/>
              <a:gd name="adj2" fmla="val 59969"/>
              <a:gd name="adj3" fmla="val 16667"/>
              <a:gd name="adj4" fmla="val 66660"/>
            </a:avLst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for fast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into dictio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74840" y="3857760"/>
            <a:ext cx="457200" cy="45720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74840" y="4772160"/>
            <a:ext cx="457200" cy="45720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08160" y="4314960"/>
            <a:ext cx="457200" cy="45720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1665360" y="4161960"/>
            <a:ext cx="609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2732040" y="3857400"/>
            <a:ext cx="9907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732040" y="4162320"/>
            <a:ext cx="99072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732040" y="5076720"/>
            <a:ext cx="99072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2732040" y="4771800"/>
            <a:ext cx="9907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665360" y="4619520"/>
            <a:ext cx="60948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728160" y="5676840"/>
            <a:ext cx="1206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57600" y="5676840"/>
            <a:ext cx="168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bytes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5551200" y="5381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237360" y="5381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binary search really a good idea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the alternativ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xed-width terms are wastefu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of the bytes in the 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Ter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lumn are wast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e allot 20 bytes for 1 letter ter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still can’t handle 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supercalifragilisticexpialidocio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 English averages ~4.5 charac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: Why is/isn’t this the number to use for estimating the dictionary siz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rt words dominate token cou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wor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English: ~8 charac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e dictionary as a string of characte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inter of next word shows end of la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pe to save up to 60% of dictionary sp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ressing the term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195640" y="1843200"/>
            <a:ext cx="661500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systilesyzygeticsyzygialsyzygyszaibelyiteszczecinszomo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47600" y="2660760"/>
          <a:ext cx="3219480" cy="196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00" y="2660760"/>
                    <a:ext cx="321948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2819520" y="3276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505320" y="2514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2666520" y="2209320"/>
            <a:ext cx="8384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819520" y="3581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809880" y="2437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3429000" y="22093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39625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267080" y="22093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819520" y="44197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5105520" y="220932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905120" y="4648320"/>
            <a:ext cx="1828800" cy="1096920"/>
          </a:xfrm>
          <a:prstGeom prst="upArrowCallout">
            <a:avLst>
              <a:gd name="adj1" fmla="val 41684"/>
              <a:gd name="adj2" fmla="val 41680"/>
              <a:gd name="adj3" fmla="val 16667"/>
              <a:gd name="adj4" fmla="val 66660"/>
            </a:avLst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poi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172200" y="2362320"/>
            <a:ext cx="2741760" cy="1096920"/>
          </a:xfrm>
          <a:prstGeom prst="upArrowCallout">
            <a:avLst>
              <a:gd name="adj1" fmla="val 62493"/>
              <a:gd name="adj2" fmla="val 62488"/>
              <a:gd name="adj3" fmla="val 16667"/>
              <a:gd name="adj4" fmla="val 66660"/>
            </a:avLst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string length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KB x 8 = 4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181480" y="3809880"/>
            <a:ext cx="3748320" cy="1096920"/>
          </a:xfrm>
          <a:prstGeom prst="leftArrowCallout">
            <a:avLst>
              <a:gd name="adj1" fmla="val 25002"/>
              <a:gd name="adj2" fmla="val 25000"/>
              <a:gd name="adj3" fmla="val 56952"/>
              <a:gd name="adj4" fmla="val 71164"/>
            </a:avLst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s resolve 4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: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M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bits = 3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tal space for compressed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bytes per term for Freq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bytes per term for pointer to Postin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bytes per term poin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vg. 8 bytes per term in term st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0 K term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9.5 M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561720" y="2859120"/>
            <a:ext cx="1973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avg.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tes/ter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re pointers to eve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on term str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 to store term lengths (1 extra byt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440360" y="3276720"/>
            <a:ext cx="763992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ile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zygetic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zygial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zygy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zaibelyite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zczecin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zomo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47600" y="4483080"/>
          <a:ext cx="3317760" cy="233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00" y="4483080"/>
                    <a:ext cx="331776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27432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3505320" y="43430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1981080" y="3657240"/>
            <a:ext cx="1524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743200" y="64771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715000" y="3657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337200" y="5181480"/>
            <a:ext cx="195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 9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021360" y="5257800"/>
            <a:ext cx="2970360" cy="914400"/>
          </a:xfrm>
          <a:prstGeom prst="leftArrowCallout">
            <a:avLst>
              <a:gd name="adj1" fmla="val 25002"/>
              <a:gd name="adj2" fmla="val 25000"/>
              <a:gd name="adj3" fmla="val 54140"/>
              <a:gd name="adj4" fmla="val 70451"/>
            </a:avLst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e 4 byte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 leng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imate the space usage (and savings compared to 9.5 MB) with blocking, for block sizes of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k = 4, 8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1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IXE: 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de</a:t>
            </a: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g </a:t>
            </a: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g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7562880" y="318960"/>
            <a:ext cx="1017720" cy="6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alized tool (indexing and search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++ framework with high-level primi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 built with few lines of C+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ization by inheri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 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e to maint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 to deal with autoconf, autoheader, automake, configure, libtool,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ed my own Make templ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m-document inci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5568840"/>
            <a:ext cx="2819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63504" dir="3183908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if 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p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wo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0 other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92000" y="2133720"/>
          <a:ext cx="7920000" cy="2619360"/>
        </p:xfrm>
        <a:graphic>
          <a:graphicData uri="http://schemas.openxmlformats.org/drawingml/2006/table">
            <a:tbl>
              <a:tblPr/>
              <a:tblGrid>
                <a:gridCol w="1141560"/>
                <a:gridCol w="1811160"/>
                <a:gridCol w="1174680"/>
                <a:gridCol w="1201680"/>
                <a:gridCol w="828720"/>
                <a:gridCol w="739800"/>
                <a:gridCol w="1022400"/>
              </a:tblGrid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Antony and Cleopat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Julius Caes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he Temp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Haml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Othel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Macbe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Anto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Bru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Caes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Calpur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Cleopat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mer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Wor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 flipH="1" flipV="1">
            <a:off x="4392360" y="3715920"/>
            <a:ext cx="1245960" cy="1846440"/>
          </a:xfrm>
          <a:prstGeom prst="line">
            <a:avLst/>
          </a:prstGeom>
          <a:ln w="19080">
            <a:solidFill>
              <a:srgbClr val="000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Keep it as simple as possible but not simple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bert Eins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xic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95280" y="2349360"/>
          <a:ext cx="8175600" cy="30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349360"/>
                    <a:ext cx="8175600" cy="30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eme compression (se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nt-coding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rted words commonly have long common prefix – store differences only (for 3 in 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perfect hashing to store terms “within” their poin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good for vocabularies that cha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tion dictionary into p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B-tree on first terms of p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 a disk seek to grab each p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e’re paying 1 disk seek anyway to get the postings, “only” another seek/query te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 it worth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verage lexicon search tim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XE: 8 mse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nt coding: 6 mse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verage query time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0 ms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mber Enc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le chapter in Managing Gigaby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st solution: local Bernoulli using Golomb codi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ghly: quotient (unary) + remainder (binar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ression: ~1 bit per pos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ick and clean solution: eptac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ta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7 bits in a byte, sign is continu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                 12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               1612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            204838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       26014464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    3303836940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lom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                 12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               1638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            209715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       2684354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    3435973836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lomb drawb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440" y="1698120"/>
            <a:ext cx="7931160" cy="20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 to store base for quoti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ings are non consecu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: 30% increase in size of inde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919160" y="3348000"/>
          <a:ext cx="6851880" cy="34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9160" y="3348000"/>
                    <a:ext cx="6851880" cy="34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damental Id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y on hardware caching and mm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ep data as compact as possi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cture on disk same as used by algorith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y on good data structures and algorith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cialize data struc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index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sear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ting Lists are created in mem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 as much memory as possible to indexing machi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size of lists reaches a threshold, dump partial index to dis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form final merging of partial index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rging operation used also for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mental index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buted index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arch mmaps index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xicon complete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ing on demand (too big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’t be done while indexing and vicevers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ever one can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dynamically a collection with new documents to sear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 documents as dele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idence ve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 we have a 0/1 vector for each ter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answer query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ke the vectors for 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Brutu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Caesa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Calpurn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complement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 bitwi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0100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110111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101111 = 1001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ll-text index fi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tings fi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ll-text Index File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Head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Lexicon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Lexicon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pWor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ization of Google hits properties (anchor, size, capitalization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ilar to Fulcrum zon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d for rank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 title words contribute more to rank of docu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selective que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Typewriter"/>
              </a:rPr>
              <a:t>text matches author = attard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processing exerci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he query is </a:t>
            </a: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friend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romans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AND (NOT </a:t>
            </a: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countrymen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could we use the freq of </a:t>
            </a: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countryme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can we perform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two postings entries without explicitly building the 0/1 term-doc incidence vector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olean queries: Exact mat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algebra of queries using AND, OR and NOT together with query wo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 “set of words” document 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ise: document matches condition or n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ry commercial retrieval tool for 3 decad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ers had long argued superiority of ranked IR systems, but not much used in practice until spread of web search eng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fessional searchers still like boolean queries: you know exactly what you’re get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f. Google’s boolean AND criter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opti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18920" y="1628640"/>
            <a:ext cx="7956360" cy="482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der a query that is a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er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idea: for each of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erms, get its term-doc incidence from the postings, the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geth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ss in order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creasing freq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art with smallest set, then keep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utting furth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781680" y="5251320"/>
            <a:ext cx="2210040" cy="944640"/>
          </a:xfrm>
          <a:prstGeom prst="leftArrowCallout">
            <a:avLst>
              <a:gd name="adj1" fmla="val 33114"/>
              <a:gd name="adj2" fmla="val 40250"/>
              <a:gd name="adj3" fmla="val 20005"/>
              <a:gd name="adj4" fmla="val 76947"/>
            </a:avLst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is is w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e kept fre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 dicti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all Adaptive Set Inter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ry compil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cursor on posting lists for each no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sorWord, CursorAnd, CursorOr, CursorPhr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ryCursor.next(Result&amp; min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s first result r &gt;= m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le operator for all kind of queries: e.g. proxim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SI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556000" y="2168640"/>
            <a:ext cx="6951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464000" y="2168640"/>
            <a:ext cx="6955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335640" y="2168640"/>
            <a:ext cx="6955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700360" y="2997360"/>
            <a:ext cx="431640" cy="43164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700360" y="3429000"/>
            <a:ext cx="431640" cy="43164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700360" y="3860640"/>
            <a:ext cx="431640" cy="43200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700360" y="4292640"/>
            <a:ext cx="431640" cy="43164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700360" y="4724280"/>
            <a:ext cx="431640" cy="43200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00360" y="5157720"/>
            <a:ext cx="431640" cy="43200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2997360"/>
            <a:ext cx="431640" cy="43164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572000" y="3429000"/>
            <a:ext cx="431640" cy="43164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0" y="3860640"/>
            <a:ext cx="431640" cy="43200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4292640"/>
            <a:ext cx="431640" cy="43164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572000" y="4724280"/>
            <a:ext cx="431640" cy="43200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2960640"/>
            <a:ext cx="432000" cy="43200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443640" y="3392640"/>
            <a:ext cx="432000" cy="43164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443640" y="3824280"/>
            <a:ext cx="432000" cy="43164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443640" y="4255920"/>
            <a:ext cx="432000" cy="43200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43640" y="4687920"/>
            <a:ext cx="432000" cy="43164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158920" y="2492280"/>
            <a:ext cx="360360" cy="432000"/>
          </a:xfrm>
          <a:prstGeom prst="rightArrow">
            <a:avLst>
              <a:gd name="adj1" fmla="val 50000"/>
              <a:gd name="adj2" fmla="val 63875"/>
            </a:avLst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176720" y="2492280"/>
            <a:ext cx="360360" cy="432000"/>
          </a:xfrm>
          <a:prstGeom prst="rightArrow">
            <a:avLst>
              <a:gd name="adj1" fmla="val 50000"/>
              <a:gd name="adj2" fmla="val 63875"/>
            </a:avLst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012000" y="2457360"/>
            <a:ext cx="360360" cy="432000"/>
          </a:xfrm>
          <a:prstGeom prst="rightArrow">
            <a:avLst>
              <a:gd name="adj1" fmla="val 50000"/>
              <a:gd name="adj2" fmla="val 63875"/>
            </a:avLst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443640" y="5121360"/>
            <a:ext cx="432000" cy="43164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43640" y="5553000"/>
            <a:ext cx="432000" cy="43200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572000" y="5157720"/>
            <a:ext cx="431640" cy="43200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4013E-006 L 0.00017 0.06835 E">
                                      <p:cBhvr>
                                        <p:cTn id="86" dur="1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0.00533 L 1.11111E-006 0.14713 E">
                                      <p:cBhvr>
                                        <p:cTn id="90" dur="10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91103E-006 L 0.00018 0.26784 E">
                                      <p:cBhvr>
                                        <p:cTn id="94" dur="1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6835 L 0.00017 0.3311 E">
                                      <p:cBhvr>
                                        <p:cTn id="98" dur="1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0.14709 L 4.16667E-006 0.33117 E">
                                      <p:cBhvr>
                                        <p:cTn id="102" dur="10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26781 L 0.004 0.46161 E">
                                      <p:cBhvr>
                                        <p:cTn id="106" dur="1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eding up postings mer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ert skip point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y our current list of candidate docs for a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query is 8,13,2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having done a bunch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want to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ith the following postings entry: 2,4,6,8,10,12,14,16,18,20,2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ear scan is slo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kip pointers or skip l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84160" y="37702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query time: as we walk the current candidate list, concurrently walk inverted file entry - can skip ahe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.g.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8,21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ip size: recommend about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list length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860840" y="2743200"/>
            <a:ext cx="58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2,4,6,8,10,12,14,16,18,20,22,24,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2057400" y="2666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286000" y="2666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819520" y="26668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2971800" y="2666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200400" y="2666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267080" y="26668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4419720" y="2666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648320" y="2666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26668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5867280" y="2666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095880" y="26668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162920" y="26668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713560" y="5599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19280" y="1628640"/>
            <a:ext cx="77724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indexing time: augment postings with skip poi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s to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tony and Cleopatra, Act III, Scene i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gripp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Aside to Domitius Enobarus]: Why, Enobarbus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ntony found Julius </a:t>
            </a:r>
            <a:r>
              <a:rPr b="1" i="1" lang="en-US" sz="2000" spc="-1" strike="noStrike">
                <a:solidFill>
                  <a:srgbClr val="3366ff"/>
                </a:solidFill>
                <a:latin typeface="Arial"/>
              </a:rPr>
              <a:t>Caesa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ad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 cried almost to roaring; and he we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t Philippi he found </a:t>
            </a:r>
            <a:r>
              <a:rPr b="1" i="1" lang="en-US" sz="2000" spc="-1" strike="noStrike">
                <a:solidFill>
                  <a:srgbClr val="3366ff"/>
                </a:solidFill>
                <a:latin typeface="Arial"/>
              </a:rPr>
              <a:t>Bru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lai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mlet, Act III, Scene i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rd Poloniu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 did enact Julius </a:t>
            </a:r>
            <a:r>
              <a:rPr b="1" i="1" lang="en-US" sz="2000" spc="-1" strike="noStrike">
                <a:solidFill>
                  <a:srgbClr val="3366ff"/>
                </a:solidFill>
                <a:latin typeface="Arial"/>
              </a:rPr>
              <a:t>Caesa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 was killed i' t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ol; </a:t>
            </a:r>
            <a:r>
              <a:rPr b="1" i="1" lang="en-US" sz="2000" spc="-1" strike="noStrike">
                <a:solidFill>
                  <a:srgbClr val="3366ff"/>
                </a:solidFill>
                <a:latin typeface="Arial"/>
              </a:rPr>
              <a:t>Bru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killed 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query opti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. (</a:t>
            </a: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madding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crow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D (</a:t>
            </a: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ignobl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strif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put any boolean query into CN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 freq’s for all ter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imate the size of each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y the sum of its freq’s (conservativ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ss in increasing order of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iz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440" y="1698480"/>
            <a:ext cx="380988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mmend a query processing order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93280" y="3089160"/>
            <a:ext cx="366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tangeri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trees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marmala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skies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kaleidoscop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ey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4800600" y="2863800"/>
          <a:ext cx="3505320" cy="314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863800"/>
                    <a:ext cx="3505320" cy="31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XE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5452920" y="3419280"/>
            <a:ext cx="0" cy="1780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230960" y="5778360"/>
            <a:ext cx="978120" cy="708120"/>
          </a:xfrm>
          <a:prstGeom prst="can">
            <a:avLst>
              <a:gd name="adj" fmla="val 42495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3708360" y="2804760"/>
            <a:ext cx="503280" cy="1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36000" rIns="36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224000" y="5416560"/>
            <a:ext cx="1063440" cy="676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aw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211640" y="2060640"/>
            <a:ext cx="1774800" cy="1359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able&lt;DocInfo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656240" y="3419640"/>
            <a:ext cx="4680" cy="1795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210440" y="4976640"/>
            <a:ext cx="965160" cy="776520"/>
          </a:xfrm>
          <a:prstGeom prst="can">
            <a:avLst>
              <a:gd name="adj" fmla="val 42495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192560" y="5214960"/>
            <a:ext cx="1838520" cy="10317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254720" y="5340240"/>
            <a:ext cx="806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987880" y="2708280"/>
            <a:ext cx="118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267680" y="6157800"/>
            <a:ext cx="83952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175520" y="2373480"/>
            <a:ext cx="930240" cy="934920"/>
          </a:xfrm>
          <a:prstGeom prst="can">
            <a:avLst>
              <a:gd name="adj" fmla="val 250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242120" y="2809800"/>
            <a:ext cx="86508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c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451640" y="5054760"/>
            <a:ext cx="48888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084480" y="2289240"/>
            <a:ext cx="709560" cy="1046160"/>
          </a:xfrm>
          <a:prstGeom prst="rect">
            <a:avLst/>
          </a:prstGeom>
          <a:solidFill>
            <a:srgbClr val="cccccc"/>
          </a:solidFill>
          <a:ln w="936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040200" y="2230560"/>
            <a:ext cx="709560" cy="1042920"/>
          </a:xfrm>
          <a:prstGeom prst="rect">
            <a:avLst/>
          </a:prstGeom>
          <a:solidFill>
            <a:srgbClr val="cccccc"/>
          </a:solidFill>
          <a:ln w="936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2951280" y="2168640"/>
            <a:ext cx="753840" cy="1042920"/>
            <a:chOff x="2951280" y="2168640"/>
            <a:chExt cx="753840" cy="1042920"/>
          </a:xfrm>
        </p:grpSpPr>
        <p:sp>
          <p:nvSpPr>
            <p:cNvPr id="463" name=""/>
            <p:cNvSpPr/>
            <p:nvPr/>
          </p:nvSpPr>
          <p:spPr>
            <a:xfrm>
              <a:off x="2951280" y="2475360"/>
              <a:ext cx="753840" cy="736200"/>
            </a:xfrm>
            <a:prstGeom prst="rect">
              <a:avLst/>
            </a:prstGeom>
            <a:solidFill>
              <a:srgbClr val="cccccc"/>
            </a:solidFill>
            <a:ln w="93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m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z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951280" y="2168640"/>
              <a:ext cx="753840" cy="355320"/>
            </a:xfrm>
            <a:prstGeom prst="rect">
              <a:avLst/>
            </a:prstGeom>
            <a:solidFill>
              <a:srgbClr val="cccccc"/>
            </a:solidFill>
            <a:ln w="93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cInfo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7451640" y="5840280"/>
            <a:ext cx="4888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879640" y="5373720"/>
            <a:ext cx="976320" cy="747720"/>
          </a:xfrm>
          <a:prstGeom prst="can">
            <a:avLst>
              <a:gd name="adj" fmla="val 250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6006960" y="5389200"/>
            <a:ext cx="1216080" cy="1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36000" rIns="36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031080" y="6060960"/>
            <a:ext cx="1195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855960" y="5694480"/>
            <a:ext cx="3556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110040" y="5624640"/>
            <a:ext cx="531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399440" y="2381400"/>
            <a:ext cx="4888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4292640" y="3789360"/>
            <a:ext cx="752400" cy="1042920"/>
            <a:chOff x="4292640" y="3789360"/>
            <a:chExt cx="752400" cy="1042920"/>
          </a:xfrm>
        </p:grpSpPr>
        <p:sp>
          <p:nvSpPr>
            <p:cNvPr id="473" name=""/>
            <p:cNvSpPr/>
            <p:nvPr/>
          </p:nvSpPr>
          <p:spPr>
            <a:xfrm>
              <a:off x="4292640" y="3789360"/>
              <a:ext cx="752400" cy="355680"/>
            </a:xfrm>
            <a:prstGeom prst="rect">
              <a:avLst/>
            </a:prstGeom>
            <a:solidFill>
              <a:srgbClr val="cccccc"/>
            </a:solidFill>
            <a:ln w="9360">
              <a:solidFill>
                <a:srgbClr val="86868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cInfo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92640" y="4095720"/>
              <a:ext cx="752400" cy="736560"/>
            </a:xfrm>
            <a:prstGeom prst="rect">
              <a:avLst/>
            </a:prstGeom>
            <a:solidFill>
              <a:srgbClr val="cccccc"/>
            </a:solidFill>
            <a:ln w="9360">
              <a:solidFill>
                <a:srgbClr val="86868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m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z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5091120" y="3616200"/>
            <a:ext cx="754200" cy="1463760"/>
            <a:chOff x="5091120" y="3616200"/>
            <a:chExt cx="754200" cy="1463760"/>
          </a:xfrm>
        </p:grpSpPr>
        <p:sp>
          <p:nvSpPr>
            <p:cNvPr id="476" name=""/>
            <p:cNvSpPr/>
            <p:nvPr/>
          </p:nvSpPr>
          <p:spPr>
            <a:xfrm>
              <a:off x="5091120" y="3616200"/>
              <a:ext cx="754200" cy="355680"/>
            </a:xfrm>
            <a:prstGeom prst="rect">
              <a:avLst/>
            </a:prstGeom>
            <a:solidFill>
              <a:srgbClr val="cccccc"/>
            </a:solidFill>
            <a:ln w="9360">
              <a:solidFill>
                <a:srgbClr val="86868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cInfo</a:t>
              </a: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091120" y="3924360"/>
              <a:ext cx="754200" cy="1155600"/>
            </a:xfrm>
            <a:prstGeom prst="rect">
              <a:avLst/>
            </a:prstGeom>
            <a:solidFill>
              <a:srgbClr val="cccccc"/>
            </a:solidFill>
            <a:ln w="9360">
              <a:solidFill>
                <a:srgbClr val="86868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m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z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tl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mmary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yp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6199200" y="2216160"/>
            <a:ext cx="754200" cy="1461960"/>
            <a:chOff x="6199200" y="2216160"/>
            <a:chExt cx="754200" cy="1461960"/>
          </a:xfrm>
        </p:grpSpPr>
        <p:sp>
          <p:nvSpPr>
            <p:cNvPr id="479" name=""/>
            <p:cNvSpPr/>
            <p:nvPr/>
          </p:nvSpPr>
          <p:spPr>
            <a:xfrm>
              <a:off x="6199200" y="2216160"/>
              <a:ext cx="754200" cy="355680"/>
            </a:xfrm>
            <a:prstGeom prst="rect">
              <a:avLst/>
            </a:prstGeom>
            <a:solidFill>
              <a:srgbClr val="cccccc"/>
            </a:solidFill>
            <a:ln w="9360">
              <a:solidFill>
                <a:srgbClr val="86868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cInfo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199200" y="2523960"/>
              <a:ext cx="754200" cy="1154160"/>
            </a:xfrm>
            <a:prstGeom prst="rect">
              <a:avLst/>
            </a:prstGeom>
            <a:solidFill>
              <a:srgbClr val="cccccc"/>
            </a:solidFill>
            <a:ln w="9360">
              <a:solidFill>
                <a:srgbClr val="86868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m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z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tl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mmary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yp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2311560" y="5769000"/>
            <a:ext cx="571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3348000" y="3357720"/>
            <a:ext cx="0" cy="201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cument St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oring Objects in Relational Ta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Typewriter"/>
              </a:rPr>
              <a:t>create table video (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Sans Typewriter"/>
              </a:rPr>
              <a:t>name</a:t>
            </a:r>
            <a:r>
              <a:rPr b="1" lang="en-US" sz="2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Sans Typewriter"/>
              </a:rPr>
              <a:t>varchar(256),</a:t>
            </a:r>
            <a:r>
              <a:rPr b="1" lang="en-US" sz="2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Sans Typewriter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Sans Typewriter"/>
              </a:rPr>
              <a:t>caption</a:t>
            </a:r>
            <a:r>
              <a:rPr b="1" lang="en-US" sz="2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Sans Typewriter"/>
              </a:rPr>
              <a:t>varchar(2048)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Sans Typewriter"/>
              </a:rPr>
              <a:t>format</a:t>
            </a:r>
            <a:r>
              <a:rPr b="1" lang="en-US" sz="2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Sans Typewriter"/>
              </a:rPr>
              <a:t>INT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Sans Typewriter"/>
              </a:rPr>
              <a:t>PRIMARY KEY(nam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Typewriter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mplate Meta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class Video : public DocInfo {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char*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name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char*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caption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forma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META(Video, (SUPERCLASS(DocInfo)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VARKEY(name, 256)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VARFIELD(caption, 2048)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FIELD(format))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};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827360" y="3382920"/>
            <a:ext cx="4825440" cy="1676520"/>
            <a:chOff x="1827360" y="3382920"/>
            <a:chExt cx="4825440" cy="1676520"/>
          </a:xfrm>
        </p:grpSpPr>
        <p:sp>
          <p:nvSpPr>
            <p:cNvPr id="490" name=""/>
            <p:cNvSpPr/>
            <p:nvPr/>
          </p:nvSpPr>
          <p:spPr>
            <a:xfrm>
              <a:off x="1827360" y="4373640"/>
              <a:ext cx="2603880" cy="685800"/>
            </a:xfrm>
            <a:prstGeom prst="ellipse">
              <a:avLst/>
            </a:prstGeom>
            <a:noFill/>
            <a:ln cap="sq"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35840" y="3382920"/>
              <a:ext cx="321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Attribute (for indexin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3435480" y="3840120"/>
              <a:ext cx="382680" cy="533520"/>
            </a:xfrm>
            <a:prstGeom prst="line">
              <a:avLst/>
            </a:prstGeom>
            <a:ln cap="sq" w="38160">
              <a:solidFill>
                <a:srgbClr val="ff00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amming Applications (C++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440" y="1698480"/>
            <a:ext cx="795492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Collection&lt;Video&gt; videos(“CNN”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videos.insert(video1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Query q(“caption MATCHES Jordan and format = wav”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Cursor&lt;Video&gt; cursor(videos, q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while (cursor.MoveNext()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cout &lt;&lt; cursor.Current(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751120" y="5783400"/>
            <a:ext cx="3260880" cy="609480"/>
          </a:xfrm>
          <a:prstGeom prst="ellipse">
            <a:avLst/>
          </a:prstGeom>
          <a:noFill/>
          <a:ln cap="sq"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 cursor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Struct QueryResult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CollectionID cid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DocID</a:t>
            </a: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did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Position</a:t>
            </a: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pos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QueryResult qmin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Cursor.next(qmin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s next result qr (document or word within document) such that qr &gt;= qm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mal search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 =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ximity search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 =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 collections search (increment cid or select ci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’ clauses (e.g. date &gt; 1/1/200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lean combin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An independent benchma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457200" y="1533600"/>
          <a:ext cx="8331120" cy="48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3600"/>
                    <a:ext cx="8331120" cy="48672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ffffff"/>
                    </a:outerShdw>
                  </a:effectLst>
                </p:spPr>
              </p:pic>
            </p:oleObj>
          </a:graphicData>
        </a:graphic>
      </p:graphicFrame>
      <p:sp>
        <p:nvSpPr>
          <p:cNvPr id="503" name=""/>
          <p:cNvSpPr/>
          <p:nvPr/>
        </p:nvSpPr>
        <p:spPr>
          <a:xfrm>
            <a:off x="2460600" y="3618000"/>
            <a:ext cx="13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084640" y="1851120"/>
            <a:ext cx="16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ry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ger corpo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de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1 M documents, each with about 1 K ter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vg 6 bytes/term including spaces/punctuatio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 GB of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y there ar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500 K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tin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erms among the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pendent eval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portal, German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portal, Fr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portal, Ita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ss test with 300 concurrent que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ity crashed in several c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crosoft Redmo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C Terabyte 20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440" y="1698480"/>
            <a:ext cx="76662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GOV2 collec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~ 25 million documets from .gov dom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~ 500 GB of docu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XE index split into 23 </a:t>
            </a: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sh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1224000" y="3753000"/>
          <a:ext cx="5940000" cy="2420280"/>
        </p:xfrm>
        <a:graphic>
          <a:graphicData uri="http://schemas.openxmlformats.org/drawingml/2006/table">
            <a:tbl>
              <a:tblPr/>
              <a:tblGrid>
                <a:gridCol w="4437360"/>
                <a:gridCol w="1502640"/>
              </a:tblGrid>
              <a:tr h="38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a Stru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xic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2 G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ting Lists (including offse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,0 G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,0 G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cument cache (option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,0 G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6,2 G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C Terabyte 20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0" y="1484280"/>
          <a:ext cx="9144000" cy="542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9144000" cy="54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Search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32440" y="2698920"/>
            <a:ext cx="7383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340000" y="1836720"/>
            <a:ext cx="2462040" cy="270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Threa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4555800" y="3249360"/>
            <a:ext cx="1230120" cy="32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539040" y="1960560"/>
            <a:ext cx="1279440" cy="7700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145360" y="2494080"/>
            <a:ext cx="7128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4986360" y="3112920"/>
            <a:ext cx="582120" cy="323640"/>
            <a:chOff x="4986360" y="3112920"/>
            <a:chExt cx="582120" cy="323640"/>
          </a:xfrm>
        </p:grpSpPr>
        <p:sp>
          <p:nvSpPr>
            <p:cNvPr id="521" name=""/>
            <p:cNvSpPr/>
            <p:nvPr/>
          </p:nvSpPr>
          <p:spPr>
            <a:xfrm>
              <a:off x="5034600" y="3161160"/>
              <a:ext cx="533880" cy="2754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986360" y="3112920"/>
              <a:ext cx="533880" cy="275040"/>
            </a:xfrm>
            <a:prstGeom prst="rect">
              <a:avLst/>
            </a:prstGeom>
            <a:solidFill>
              <a:srgbClr val="ff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115600" y="3112920"/>
              <a:ext cx="72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164200" y="3112920"/>
              <a:ext cx="108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212800" y="3112920"/>
              <a:ext cx="72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277240" y="3112920"/>
              <a:ext cx="108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326200" y="3112920"/>
              <a:ext cx="72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90640" y="3112920"/>
              <a:ext cx="108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801720" y="2698920"/>
            <a:ext cx="922320" cy="5540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002440" y="1960560"/>
            <a:ext cx="862200" cy="552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564240" y="3589200"/>
            <a:ext cx="1279440" cy="7700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028000" y="3589200"/>
            <a:ext cx="861840" cy="5540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556160" y="3745080"/>
            <a:ext cx="14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032520" y="2266920"/>
            <a:ext cx="554040" cy="1724040"/>
          </a:xfrm>
          <a:custGeom>
            <a:avLst/>
            <a:gdLst/>
            <a:ahLst/>
            <a:rect l="l" t="t" r="r" b="b"/>
            <a:pathLst>
              <a:path w="513" h="1596">
                <a:moveTo>
                  <a:pt x="456" y="0"/>
                </a:moveTo>
                <a:lnTo>
                  <a:pt x="0" y="0"/>
                </a:lnTo>
                <a:lnTo>
                  <a:pt x="0" y="1596"/>
                </a:lnTo>
                <a:lnTo>
                  <a:pt x="513" y="159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832120" y="2698920"/>
            <a:ext cx="1441440" cy="860400"/>
          </a:xfrm>
          <a:prstGeom prst="rect">
            <a:avLst/>
          </a:prstGeom>
          <a:solidFill>
            <a:srgbClr val="e1e1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78000" y="3067200"/>
            <a:ext cx="1441440" cy="861840"/>
          </a:xfrm>
          <a:prstGeom prst="rect">
            <a:avLst/>
          </a:prstGeom>
          <a:solidFill>
            <a:srgbClr val="e1e1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863960" y="2513160"/>
            <a:ext cx="860400" cy="49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ync I/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032520" y="3129120"/>
            <a:ext cx="554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663560" y="2944800"/>
            <a:ext cx="676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786280" y="2513160"/>
            <a:ext cx="766800" cy="1719000"/>
          </a:xfrm>
          <a:custGeom>
            <a:avLst/>
            <a:gdLst/>
            <a:ahLst/>
            <a:rect l="l" t="t" r="r" b="b"/>
            <a:pathLst>
              <a:path w="710" h="1592">
                <a:moveTo>
                  <a:pt x="695" y="2"/>
                </a:moveTo>
                <a:lnTo>
                  <a:pt x="0" y="0"/>
                </a:lnTo>
                <a:lnTo>
                  <a:pt x="5" y="1592"/>
                </a:lnTo>
                <a:lnTo>
                  <a:pt x="710" y="1592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802480" y="3375000"/>
            <a:ext cx="79992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4319640" y="4890960"/>
            <a:ext cx="4608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728720"/>
            <a:ext cx="7772400" cy="479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nippe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cument cach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le colle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rted by page ran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oritativen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pula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ter/Group by similar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Comp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act on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nary search down to 4-term blo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n linear search through terms in blo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 documents: binary tree ave. = 2.6 comp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cks of 4 (binary tree), ave. = 3 comp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 (1+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+4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+4)/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(1+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+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+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+5)/8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486080" y="4610160"/>
            <a:ext cx="342720" cy="34272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447920" y="5524560"/>
            <a:ext cx="342720" cy="34272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62120" y="5067360"/>
            <a:ext cx="342720" cy="34272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1790640" y="4572000"/>
            <a:ext cx="49536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790640" y="4915080"/>
            <a:ext cx="49536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790640" y="5791320"/>
            <a:ext cx="4953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1790640" y="5562720"/>
            <a:ext cx="57168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120080" y="5410080"/>
            <a:ext cx="347400" cy="34776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8153280" y="4648320"/>
            <a:ext cx="347760" cy="347400"/>
          </a:xfrm>
          <a:prstGeom prst="flowChartConnector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467480" y="4648320"/>
            <a:ext cx="347760" cy="347400"/>
          </a:xfrm>
          <a:prstGeom prst="flowChartConnector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738840" y="4648320"/>
            <a:ext cx="347760" cy="347400"/>
          </a:xfrm>
          <a:prstGeom prst="flowChartConnector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0" name=""/>
          <p:cNvCxnSpPr>
            <a:stCxn id="561" idx="6"/>
            <a:endCxn id="559" idx="2"/>
          </p:cNvCxnSpPr>
          <p:nvPr/>
        </p:nvCxnSpPr>
        <p:spPr>
          <a:xfrm>
            <a:off x="6362280" y="4819320"/>
            <a:ext cx="376920" cy="3960"/>
          </a:xfrm>
          <a:prstGeom prst="curvedConnector5">
            <a:avLst>
              <a:gd name="adj1" fmla="val 49713"/>
              <a:gd name="adj2" fmla="val 50000"/>
              <a:gd name="adj3" fmla="val 4971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2" name=""/>
          <p:cNvCxnSpPr>
            <a:stCxn id="559" idx="6"/>
            <a:endCxn id="558" idx="2"/>
          </p:cNvCxnSpPr>
          <p:nvPr/>
        </p:nvCxnSpPr>
        <p:spPr>
          <a:xfrm>
            <a:off x="7086600" y="4822560"/>
            <a:ext cx="3816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3" name=""/>
          <p:cNvCxnSpPr>
            <a:stCxn id="564" idx="6"/>
            <a:endCxn id="556" idx="2"/>
          </p:cNvCxnSpPr>
          <p:nvPr/>
        </p:nvCxnSpPr>
        <p:spPr>
          <a:xfrm>
            <a:off x="6705360" y="5581800"/>
            <a:ext cx="415080" cy="3600"/>
          </a:xfrm>
          <a:prstGeom prst="curvedConnector5">
            <a:avLst>
              <a:gd name="adj1" fmla="val 49739"/>
              <a:gd name="adj2" fmla="val 44444"/>
              <a:gd name="adj3" fmla="val 497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5" name=""/>
          <p:cNvSpPr/>
          <p:nvPr/>
        </p:nvSpPr>
        <p:spPr>
          <a:xfrm>
            <a:off x="2319480" y="5791320"/>
            <a:ext cx="347400" cy="347400"/>
          </a:xfrm>
          <a:prstGeom prst="flowChartConnector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319480" y="5334120"/>
            <a:ext cx="347400" cy="347400"/>
          </a:xfrm>
          <a:prstGeom prst="flowChartConnector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319480" y="4876920"/>
            <a:ext cx="347400" cy="347400"/>
          </a:xfrm>
          <a:prstGeom prst="flowChartConnector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319480" y="4419720"/>
            <a:ext cx="347400" cy="347400"/>
          </a:xfrm>
          <a:prstGeom prst="flowChartConnector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881840" y="5410080"/>
            <a:ext cx="347760" cy="34776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019920" y="4648320"/>
            <a:ext cx="342720" cy="342720"/>
          </a:xfrm>
          <a:prstGeom prst="flowChartConnector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362640" y="5410080"/>
            <a:ext cx="343080" cy="34308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410080" y="5410080"/>
            <a:ext cx="343080" cy="34308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1" name=""/>
          <p:cNvCxnSpPr>
            <a:stCxn id="570" idx="7"/>
            <a:endCxn id="561" idx="3"/>
          </p:cNvCxnSpPr>
          <p:nvPr/>
        </p:nvCxnSpPr>
        <p:spPr>
          <a:xfrm flipV="1">
            <a:off x="5702040" y="4939920"/>
            <a:ext cx="369000" cy="52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2" name=""/>
          <p:cNvCxnSpPr>
            <a:stCxn id="570" idx="6"/>
            <a:endCxn id="564" idx="2"/>
          </p:cNvCxnSpPr>
          <p:nvPr/>
        </p:nvCxnSpPr>
        <p:spPr>
          <a:xfrm>
            <a:off x="5752800" y="558144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51" idx="7"/>
            <a:endCxn id="549" idx="2"/>
          </p:cNvCxnSpPr>
          <p:nvPr/>
        </p:nvCxnSpPr>
        <p:spPr>
          <a:xfrm flipV="1">
            <a:off x="1054080" y="4780800"/>
            <a:ext cx="43272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51" idx="5"/>
            <a:endCxn id="550" idx="2"/>
          </p:cNvCxnSpPr>
          <p:nvPr/>
        </p:nvCxnSpPr>
        <p:spPr>
          <a:xfrm>
            <a:off x="1054080" y="5358960"/>
            <a:ext cx="39456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5" name=""/>
          <p:cNvSpPr/>
          <p:nvPr/>
        </p:nvSpPr>
        <p:spPr>
          <a:xfrm>
            <a:off x="3352680" y="5029200"/>
            <a:ext cx="1371600" cy="45720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162240" y="4229280"/>
            <a:ext cx="343080" cy="342720"/>
          </a:xfrm>
          <a:prstGeom prst="flowChartConnector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666880" y="4419360"/>
            <a:ext cx="49536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8" name=""/>
          <p:cNvCxnSpPr>
            <a:stCxn id="556" idx="6"/>
            <a:endCxn id="569" idx="2"/>
          </p:cNvCxnSpPr>
          <p:nvPr/>
        </p:nvCxnSpPr>
        <p:spPr>
          <a:xfrm>
            <a:off x="7467120" y="5584320"/>
            <a:ext cx="415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9" name=""/>
          <p:cNvCxnSpPr>
            <a:stCxn id="558" idx="6"/>
            <a:endCxn id="557" idx="2"/>
          </p:cNvCxnSpPr>
          <p:nvPr/>
        </p:nvCxnSpPr>
        <p:spPr>
          <a:xfrm>
            <a:off x="7814880" y="4822560"/>
            <a:ext cx="338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ression: Two altern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sless compression: all information is preserved, but we try to encode it compact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R people mostly 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sy compression: discard some in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a stoplist can be thought of in this w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ques such as Latent Semantic Indexing can be viewed as lossy compre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could prune from postings entries unlikely to turn up in the top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ist for query on w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pecially applicable to web search with huge numbers of documents but short quer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Carmel et al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IGIR 20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25% of your users are searching f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Britney Spea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n you probabl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eed spelling correction, but you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on’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eed to keep on intersecting those two postings lis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 query distribution is extremely skewed, and you can usefully cache results for common que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vs. index expa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all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auri for term equival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ndex for homony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we use thes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“expand” query to include equivale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ry </a:t>
            </a: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car tyr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car tyres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automobile ti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expand inde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x docs containing </a:t>
            </a: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c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der </a:t>
            </a: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automob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s w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’t build the matr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0K x 1M matrix has half-a-trillion 0’s and 1’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it has no more than one billion 1’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rix is extremely spar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’s a better representat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93080" y="3357720"/>
            <a:ext cx="1279440" cy="609480"/>
          </a:xfrm>
          <a:prstGeom prst="leftArrowCallout">
            <a:avLst>
              <a:gd name="adj1" fmla="val 25002"/>
              <a:gd name="adj2" fmla="val 25000"/>
              <a:gd name="adj3" fmla="val 34987"/>
              <a:gd name="adj4" fmla="val 66673"/>
            </a:avLst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expa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ually do query expan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index blow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ry processing slowed dow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s frequently contain equivale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 retrieve more jun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pum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jagu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efully controll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ordne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ld-card queries: 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mon*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ind all docs containing any word beginning “mon”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sy with binary tree (or B-Tree) lexicon: retrieve all words in range: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≤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w &lt; mo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ff"/>
                </a:solidFill>
                <a:latin typeface="Arial"/>
              </a:rPr>
              <a:t>*mo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words ending in “mon”: har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uterm index: for word </a:t>
            </a: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hell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dex under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hello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ello$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llo$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lo$h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o$h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ri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lookup on 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X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X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kup on   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X*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*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kup on 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X$*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*X*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lookup on   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X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X*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okup on 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Y$X*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X*Y*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??? Exercise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ld-car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ermuterm problem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≈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quadruples lexico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other way: index all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grams occurring in any word (any sequence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har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.g.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rom text “April is the cruelest month” we get the 2-grams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igram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 is a special word boundary symb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478160" y="4668840"/>
            <a:ext cx="6127200" cy="8254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$a,ap,pr,ri,il,l$,$i,is,s$,$t,th,he,e$,$c,cr,r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e,el,le,es,st,t$, $m,mo,on,nt,h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sing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gram wild-c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ry </a:t>
            </a: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mon*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an now be run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$m AND mo AND 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st, space effici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we’d get a match o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t post-filter these results against que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rther wild-card refin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t down on pointers by using blo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d-card queries tend to have few bi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ep postings on dis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ercise: given a trigram index, how do you process an arbitrary wild-card quer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rase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rch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to be or not to b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longer suffices to store only &lt;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oc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 ent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could just do this anyway, and the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st-fil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[i.e., grep] for phrase mat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able if phrase matches are uncomm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natively, store, for each </a:t>
            </a: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ter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ent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number of docs containing </a:t>
            </a: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ter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oc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position1, position2 … 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oc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position1, position2 … 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c.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itional index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7772400" cy="219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an compress position values/offsets as we did with docs in the last lectur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vertheless, this expands postings list in siz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ubstantial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371600" y="2133720"/>
            <a:ext cx="5410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99342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7, 18, 33, 72, 86, 23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3, 149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17, 191, 291, 430, 43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363, 367, …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800600" y="2438280"/>
            <a:ext cx="4113360" cy="1371600"/>
          </a:xfrm>
          <a:prstGeom prst="leftArrowCallout">
            <a:avLst>
              <a:gd name="adj1" fmla="val 25002"/>
              <a:gd name="adj2" fmla="val 25000"/>
              <a:gd name="adj3" fmla="val 49983"/>
              <a:gd name="adj4" fmla="val 66673"/>
            </a:avLst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se do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 contain 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r not to 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sing a phrase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ract inverted index entries for each distinct term: 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to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b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o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n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rge thei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oc:pos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ists to enumerate all positions where “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to be or not to b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begi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to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1,17,74,222,551;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:8,27,101,429,433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13,23,191; 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be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17,19; </a:t>
            </a: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:17,191,291,430,434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14,19,101; 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e general method for proximity sear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WestLaw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http://www.westlaw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rgest commercial (paying subscribers) legal search service (started 1975; ranking added 199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bout 7 terabytes of data; 700,000 us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jority of user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il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 boolean que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ample query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e statute of limitations in cases involving the federal tort claims ac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d"/>
                </a:solidFill>
                <a:latin typeface="Arial"/>
                <a:ea typeface="Arial"/>
              </a:rPr>
              <a:t>LIMIT! /3 STATUTE ACTION /S FEDERAL /2 TORT /3 CLAI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, precise queries; proximity operators; incrementally developed; not like web sear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si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mming/case folding c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of terms by ~40%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of pointers by 10-20%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space by ~30%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p wor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le of 30: ~30 words account for ~30% of all term occurrences in written tex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iminating 150 commonest terms from indexing will cut almost 25% of sp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itional index si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698120"/>
            <a:ext cx="7772400" cy="310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 an entry for each occurrence, not just once per docu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x size depends on average document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web page has &lt;1000 ter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 filings, books, even some epic poems … easily 100,000 ter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ider a term with frequency 0.1%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091360" y="2643120"/>
            <a:ext cx="976320" cy="685800"/>
          </a:xfrm>
          <a:prstGeom prst="leftArrow">
            <a:avLst>
              <a:gd name="adj1" fmla="val 50000"/>
              <a:gd name="adj2" fmla="val 35591"/>
            </a:avLst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990720" y="5029200"/>
            <a:ext cx="7768800" cy="1447920"/>
            <a:chOff x="990720" y="5029200"/>
            <a:chExt cx="7768800" cy="1447920"/>
          </a:xfrm>
        </p:grpSpPr>
        <p:sp>
          <p:nvSpPr>
            <p:cNvPr id="611" name=""/>
            <p:cNvSpPr/>
            <p:nvPr/>
          </p:nvSpPr>
          <p:spPr>
            <a:xfrm>
              <a:off x="6170040" y="5994000"/>
              <a:ext cx="25894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1000"/>
            </a:bodyPr>
            <a:p>
              <a:pPr algn="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580200" y="5994000"/>
              <a:ext cx="25894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1000"/>
            </a:bodyPr>
            <a:p>
              <a:pPr algn="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990720" y="5994000"/>
              <a:ext cx="25894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1000"/>
            </a:bodyPr>
            <a:p>
              <a:pPr algn="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,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170040" y="5512320"/>
              <a:ext cx="258948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1000"/>
            </a:bodyPr>
            <a:p>
              <a:pPr algn="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580200" y="5512320"/>
              <a:ext cx="258948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1000"/>
            </a:bodyPr>
            <a:p>
              <a:pPr algn="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90720" y="5512320"/>
              <a:ext cx="258948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1000"/>
            </a:bodyPr>
            <a:p>
              <a:pPr algn="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170040" y="5029200"/>
              <a:ext cx="258948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ositional posting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580200" y="5029200"/>
              <a:ext cx="258948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1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osting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990720" y="5029200"/>
              <a:ext cx="258948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990720" y="5029200"/>
              <a:ext cx="7768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990720" y="5512320"/>
              <a:ext cx="77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990720" y="5994000"/>
              <a:ext cx="77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990720" y="6477120"/>
              <a:ext cx="7768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990720" y="5029200"/>
              <a:ext cx="0" cy="1447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580200" y="5029200"/>
              <a:ext cx="0" cy="144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70040" y="5029200"/>
              <a:ext cx="0" cy="144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759520" y="5029200"/>
              <a:ext cx="0" cy="1447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990720" y="502920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ocument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20:37Z</dcterms:created>
  <dc:creator>Giuseppe Attardi</dc:creator>
  <dc:description/>
  <dc:language>en-US</dc:language>
  <cp:lastModifiedBy>Giuseppe Attardi</cp:lastModifiedBy>
  <dcterms:modified xsi:type="dcterms:W3CDTF">2005-06-03T13:25:11Z</dcterms:modified>
  <cp:revision>90</cp:revision>
  <dc:subject/>
  <dc:title>Indexing</dc:title>
</cp:coreProperties>
</file>